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53C-809D-4BA6-A9AC-E626B59F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476360" y="-399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E40-8ECB-4C13-9214-32E7332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4068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-1476360" y="-399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40680" y="-399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1CC-1847-4FC6-B112-CBE439C0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306080" y="-276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88520" y="-276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-1476360" y="-399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306080" y="-399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088520" y="-399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294-AB5B-4CA6-870A-76307B78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-1476360" y="-276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9DF-0C5E-4E3E-BC27-595C1CED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B14-0639-4BA0-B20A-6FFD2636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40680" y="-276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95A-707A-4B64-96F5-E508A98B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1D2-244D-4436-8B38-A738A09E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253-F2DA-41F1-9BDF-9D0128C9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40680" y="-276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-1476360" y="-399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C45-5D66-4800-9FF0-F2E8B8C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4068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40680" y="-399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1B5-57B7-4877-887B-9E48E23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4068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-1476360" y="-399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9BA-97F8-4A89-9CC8-F47EBF19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1476360" y="-276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84360" y="624492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560" y="549000"/>
            <a:ext cx="13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836640"/>
            <a:ext cx="1619280" cy="1413000"/>
            <a:chOff x="216000" y="836640"/>
            <a:chExt cx="1619280" cy="1413000"/>
          </a:xfrm>
        </p:grpSpPr>
        <p:sp>
          <p:nvSpPr>
            <p:cNvPr id="6" name=""/>
            <p:cNvSpPr/>
            <p:nvPr/>
          </p:nvSpPr>
          <p:spPr>
            <a:xfrm>
              <a:off x="216000" y="836640"/>
              <a:ext cx="1619280" cy="1413000"/>
            </a:xfrm>
            <a:custGeom>
              <a:avLst/>
              <a:gdLst>
                <a:gd name="textAreaLeft" fmla="*/ 369720 w 1619280"/>
                <a:gd name="textAreaRight" fmla="*/ 1249560 w 1619280"/>
                <a:gd name="textAreaTop" fmla="*/ 322560 h 1413000"/>
                <a:gd name="textAreaBottom" fmla="*/ 1090440 h 14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2520" y="1105200"/>
              <a:ext cx="999360" cy="845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i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</a:rPr>
                <a:t>Confort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</a:rPr>
                <a:t>locul de munc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gonomie.ro/" TargetMode="External"/><Relationship Id="rId2" Type="http://schemas.openxmlformats.org/officeDocument/2006/relationships/hyperlink" Target="http://www.ergonomie.ro/" TargetMode="External"/><Relationship Id="rId3" Type="http://schemas.openxmlformats.org/officeDocument/2006/relationships/hyperlink" Target="http://www.ergonomie.ro/" TargetMode="External"/><Relationship Id="rId4" Type="http://schemas.openxmlformats.org/officeDocument/2006/relationships/hyperlink" Target="http://www.osha.europa.eu.ro/" TargetMode="External"/><Relationship Id="rId5" Type="http://schemas.openxmlformats.org/officeDocument/2006/relationships/hyperlink" Target="http://www.agame.com/games" TargetMode="External"/><Relationship Id="rId6" Type="http://schemas.openxmlformats.org/officeDocument/2006/relationships/hyperlink" Target="http://www.agame.com/games" TargetMode="External"/><Relationship Id="rId7" Type="http://schemas.openxmlformats.org/officeDocument/2006/relationships/hyperlink" Target="http://www.agame.com/games" TargetMode="External"/><Relationship Id="rId8" Type="http://schemas.openxmlformats.org/officeDocument/2006/relationships/hyperlink" Target="http://www.agame.com/games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 Narrow"/>
              </a:rPr>
              <a:t>MĂ SIMT 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GRU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CLA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4000" y="907920"/>
            <a:ext cx="642456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 Narrow"/>
              </a:rPr>
              <a:t>O ambianţă fizică corespunzătoare principiilor ergonomice asigur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Scăderea obosel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Concentrarea mai bun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Diminuarea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riscurilor de îmbolnăvir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600" y="322200"/>
            <a:ext cx="76899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luminat natural -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ferestre; nu există draperii pentru controlul luminii naturale</a:t>
            </a:r>
            <a:br>
              <a:rPr sz="2000"/>
            </a:b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Iluminat artificial -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se utilizează becuri simple care emit o lumină gălbuie obositoare pentru ochi, dau o strălucire mare a obiectelor</a:t>
            </a: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Arial Narrow"/>
              </a:rPr>
              <a:t>Nu există </a:t>
            </a: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Iluminat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249280"/>
            <a:ext cx="2627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Cromatica -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culori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rec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(gri,albastru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) care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inhibă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comunicarea. Culori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au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fecte psiholog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 nelinişte, reţin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presie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,utilizate în ex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Zgomot  </a:t>
            </a:r>
            <a:r>
              <a:rPr b="0" i="1" lang="ro-RO" sz="2000" spc="-1" strike="noStrike">
                <a:solidFill>
                  <a:srgbClr val="000000"/>
                </a:solidFill>
                <a:latin typeface="Arial Narrow"/>
              </a:rPr>
              <a:t>8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0-90dB, muzică prea t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Ventilaţie </a:t>
            </a:r>
            <a:r>
              <a:rPr b="0" i="1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p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deschiderea ferestr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00360" y="1773360"/>
            <a:ext cx="6443280" cy="6695280"/>
            <a:chOff x="2700360" y="1773360"/>
            <a:chExt cx="6443280" cy="66952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700360" y="1773360"/>
              <a:ext cx="6443280" cy="444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696920" y="4024440"/>
              <a:ext cx="3653640" cy="44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Iluminat natural -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ferestre; Draperii pentru controlul luminii naturale</a:t>
            </a:r>
            <a:br>
              <a:rPr sz="2000"/>
            </a:b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Iluminat artificial -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se utilizează lămpi cu descărcări în gaze , pentru a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elimina umbrele şi nu provoacă orbirea prin strălucire, comutator reglabil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Iluminat local-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lampă cu braţ flexi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67327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Cromatica</a:t>
            </a:r>
            <a:r>
              <a:rPr b="0" i="1" lang="ro-RO" sz="20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ulorile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c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(ro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u,portocaliu,galb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favorizează comunic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Culori pastel care au e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de linişte,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bună dispoziţ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chilibru,facilit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ea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deconectarea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nervoas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Zgomot 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50-60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Instalaţie de climatiz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care asigur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Temperatura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21-23°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Umiditatea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50-75% , </a:t>
            </a: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Ventilaţie </a:t>
            </a:r>
            <a:r>
              <a:rPr b="0" i="1" lang="ro-RO" sz="2000" spc="-1" strike="noStrike">
                <a:solidFill>
                  <a:srgbClr val="000000"/>
                </a:solidFill>
                <a:latin typeface="Arial Narrow"/>
              </a:rPr>
              <a:t>şi prin deschiderea ferestr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6516720" cy="4289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55640" y="907560"/>
            <a:ext cx="5545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 Narrow"/>
              </a:rPr>
              <a:t>În loc de concluzii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4360" y="2249640"/>
          <a:ext cx="36147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49640"/>
                    <a:ext cx="36147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932360" y="2251080"/>
          <a:ext cx="3592440" cy="460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2251080"/>
                    <a:ext cx="359244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68000" y="620640"/>
            <a:ext cx="6620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 Narrow"/>
              </a:rPr>
              <a:t>BIBLIOGRAFIE / 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Arial Narrow"/>
              </a:rPr>
              <a:t>RESURS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63640" y="256536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Popescu, E., ( 1986), </a:t>
            </a:r>
            <a:r>
              <a:rPr b="0" i="1" lang="ro-RO" sz="3200" spc="-1" strike="noStrike">
                <a:solidFill>
                  <a:srgbClr val="000000"/>
                </a:solidFill>
                <a:latin typeface="Arial Narrow"/>
              </a:rPr>
              <a:t>Ghid ergonomic</a:t>
            </a: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Editura Dacia, Cluj Nap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www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. 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ergonomie.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www.osha.europa.eu.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www.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Narrow"/>
                <a:hlinkClick r:id="rId7"/>
              </a:rPr>
              <a:t>agame.co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/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9999"/>
                </a:solidFill>
                <a:latin typeface="Arial Narrow"/>
              </a:rPr>
              <a:t>www. ergo.human.cornell.edu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4:33:52Z</dcterms:created>
  <dc:creator>sorina</dc:creator>
  <dc:description/>
  <dc:language>en-US</dc:language>
  <cp:lastModifiedBy>sorina</cp:lastModifiedBy>
  <dcterms:modified xsi:type="dcterms:W3CDTF">2009-12-13T08:06:01Z</dcterms:modified>
  <cp:revision>11</cp:revision>
  <dc:subject/>
  <dc:title>Slide 1</dc:title>
</cp:coreProperties>
</file>